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87053"/>
        <c:axId val="54364171"/>
      </c:barChart>
      <c:catAx>
        <c:axId val="852870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4171"/>
        <c:crosses val="autoZero"/>
        <c:auto val="1"/>
        <c:lblAlgn val="ctr"/>
        <c:lblOffset val="100"/>
        <c:noMultiLvlLbl val="0"/>
      </c:catAx>
      <c:valAx>
        <c:axId val="54364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870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438-D6D9-4F98-91FE-A9099EFC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66E-95F5-40D3-B144-35F47F00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3A4-73F4-4D11-BF37-E2FF261D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725-6E9A-4B6A-845F-F271398F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A66-3B3F-4DE6-8C63-F376356B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F6F-080B-48C1-9880-EC39BC52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AA4-2AE0-46E6-9089-F14CB70D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61C-BABF-4BE9-AE00-18FDD8B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CA0-7EFB-46A7-B81F-48AE1090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38F-4249-4325-8AB6-4288987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EFF-0351-4C1B-BC72-E96CB178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C0A-EC80-4712-9B1E-03263222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D1211-CA16-4467-B220-9AEFDF7AA2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