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24077"/>
        <c:axId val="92329940"/>
      </c:barChart>
      <c:catAx>
        <c:axId val="7082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29940"/>
        <c:crosses val="autoZero"/>
        <c:auto val="1"/>
        <c:lblAlgn val="ctr"/>
        <c:lblOffset val="100"/>
        <c:noMultiLvlLbl val="0"/>
      </c:catAx>
      <c:valAx>
        <c:axId val="92329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2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9E4-002E-45E4-A7F6-1E03B1BB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72A-ED30-4976-B44A-75E611DA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88E-00C2-4598-B2BB-893DFEB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D07-7DF0-43C1-A83C-2E0D74CD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D34-9FEE-4F3C-A391-05BD6730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833-20BF-4AF6-9764-8E3AF7B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164-A329-4665-8CCE-1B454A9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8B4-45DF-48BD-8080-EB753AB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512-7792-4476-8590-95C037CB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EF0-423D-4260-966B-9F1E8CA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DA5-03AB-4744-A69F-EB690D78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A96-55C8-4781-A4A8-D6D9F28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AFAB9-42DC-47AF-AB5D-A057C1944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