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32844"/>
        <c:axId val="89103350"/>
      </c:barChart>
      <c:catAx>
        <c:axId val="846328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03350"/>
        <c:crosses val="autoZero"/>
        <c:auto val="1"/>
        <c:lblAlgn val="ctr"/>
        <c:lblOffset val="100"/>
        <c:noMultiLvlLbl val="0"/>
      </c:catAx>
      <c:valAx>
        <c:axId val="89103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328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5AE-BB2A-4ABB-99F2-644DD0A9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CAF-242A-4A60-969A-6E1CF5C4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298-0F78-431B-8EA1-FC3CC623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F43B-BE9E-40E0-ACA1-DD2F4EB0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90A-C0C3-467A-BD00-C5D2336B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A6C1-7ED2-4301-8A95-6B2C6141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D88-2C6E-454D-884A-4E72E183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289-61E8-4D78-B608-29A5B6E2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D71-1EEF-44DB-BC68-94749584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A02-23CC-420D-923B-31B06E79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DE1-6F84-4CF3-81AF-4AD4F00A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CE4-A66E-4397-ACF7-05D1B2EE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C5CB4-C71D-4AF2-8A6C-45ECC15555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