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54343"/>
        <c:axId val="87949762"/>
      </c:barChart>
      <c:catAx>
        <c:axId val="39454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49762"/>
        <c:crosses val="autoZero"/>
        <c:auto val="1"/>
        <c:lblAlgn val="ctr"/>
        <c:lblOffset val="100"/>
        <c:noMultiLvlLbl val="0"/>
      </c:catAx>
      <c:valAx>
        <c:axId val="87949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54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3D5-D61B-4033-9790-D578FA58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61C-A5A2-4B16-BB7D-1DE5B6BC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BD6-0B80-46D8-8BF3-16E31336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C68-69D0-4637-B468-34A98DF5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FAE-051B-41FB-B24E-D6454DC7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F83-CFBC-4D54-A847-799A595D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9F9-9019-43AC-97BD-C7B67A25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A39-EA06-4FDF-8BB6-EB6EFFF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6AE-13B9-454F-A89F-70811CDA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80F-F800-49F1-9C00-FC5935B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10C-3A74-4CD2-8E07-BE5FE87D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189-0CF7-4B9E-9B5C-D2D95FD3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53DA8-91CC-4AE5-AA94-76980663E9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