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407204"/>
        <c:axId val="4209278"/>
      </c:barChart>
      <c:catAx>
        <c:axId val="834072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9278"/>
        <c:crosses val="autoZero"/>
        <c:auto val="1"/>
        <c:lblAlgn val="ctr"/>
        <c:lblOffset val="100"/>
        <c:noMultiLvlLbl val="0"/>
      </c:catAx>
      <c:valAx>
        <c:axId val="42092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072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C8F7-2846-4B00-9C38-A9E64350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2072-E523-47DA-A29A-39EE36AF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472-406A-4F50-9850-852DD105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FF42-C69A-444F-B8C3-4A0C1783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93A6-0936-48AD-8FBE-424A7DAB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D287-A06D-407A-B19F-94428F45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04FB-1908-4A7E-B84B-86FC927F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897-F382-430A-B445-523B2CFB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33C3-179C-4AEB-B1BF-346B11FB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8EE-D71A-4F4A-B298-36A2882A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908B-DF11-42AA-BF3C-2D7C7D04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DA38-29A6-45DE-B77E-2A1A94AD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B2319-F0B8-43EB-A0E7-2C82AAEE9E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