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173811"/>
        <c:axId val="63039336"/>
      </c:barChart>
      <c:catAx>
        <c:axId val="151738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039336"/>
        <c:crosses val="autoZero"/>
        <c:auto val="1"/>
        <c:lblAlgn val="ctr"/>
        <c:lblOffset val="100"/>
        <c:noMultiLvlLbl val="0"/>
      </c:catAx>
      <c:valAx>
        <c:axId val="630393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1738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A285-CF8D-4D5B-847A-5860EA857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019E-161C-42B7-B582-0ECB74407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773A-E088-49A6-88F4-F4B3A085A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5B72-1D55-405F-9435-AD20F65EF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C985-A733-459E-A0A5-A4975543D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C661-6D59-4AE3-80FA-46A606D49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F5B2-0468-4E9D-96E8-791408483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B8B7-D937-4C55-8AAC-AF751DDDA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BB75-B7C9-4642-BA5F-307574DDB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85A4-1186-47E0-A142-E4D43BCB3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163D-E22B-4D89-A242-B118DF751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9812-F025-40D9-9876-9FCD55D50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F58646-93A2-4C71-9C15-E421AD6C7D1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