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45026"/>
        <c:axId val="74681259"/>
      </c:barChart>
      <c:catAx>
        <c:axId val="85345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81259"/>
        <c:crosses val="autoZero"/>
        <c:auto val="1"/>
        <c:lblAlgn val="ctr"/>
        <c:lblOffset val="100"/>
        <c:noMultiLvlLbl val="0"/>
      </c:catAx>
      <c:valAx>
        <c:axId val="74681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45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FDE-6CD7-4429-A541-B767F9F3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96D-0063-4A7A-A71E-6DF3FEE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C8A-D451-4AF7-B17E-692B01B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1B6-EC01-4A25-B772-C827A0B4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9C1-7F5F-4F4D-8702-D03EEA4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565-20E4-43A7-81AE-95A2CC8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B13-B7A0-453B-B640-9EA3F67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B32-BD61-4F12-8E3D-76A0186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748-9C0A-4171-8593-FB44E16C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2B6-43C8-430F-BEDA-1534AC8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E73-2667-43D9-9E5C-2424E3D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500-F673-492C-9F26-AA85B79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E78FC-5FB1-4832-BA5D-104453C274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