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15091"/>
        <c:axId val="58639468"/>
      </c:barChart>
      <c:catAx>
        <c:axId val="653150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39468"/>
        <c:crosses val="autoZero"/>
        <c:auto val="1"/>
        <c:lblAlgn val="ctr"/>
        <c:lblOffset val="100"/>
        <c:noMultiLvlLbl val="0"/>
      </c:catAx>
      <c:valAx>
        <c:axId val="58639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150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50C-3959-4369-A397-5795A3D7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01E-9A17-4D61-A835-2480D26E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FCB0-E3E9-42D3-A859-05FC63FB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8A0-BAAF-4015-BFBF-0DA7998A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7EA-0046-4C42-972C-BA977596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D57-AF11-49F8-8587-9DEBED27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4E0-C2B9-4678-9CA3-F83590DF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58E-B185-4052-B844-0C2A2434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845-42CD-4147-8BB7-BCF0F801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E8F0-E03F-40CB-B5BB-1C2415C6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8AD5-3C14-4711-BDE3-A652CA11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06C3-D896-4178-9C23-B605A66B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C4E74-0D92-4B72-ADCA-8D4B4E9112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