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8877"/>
        <c:axId val="27511782"/>
      </c:barChart>
      <c:catAx>
        <c:axId val="2048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1782"/>
        <c:crosses val="autoZero"/>
        <c:auto val="1"/>
        <c:lblAlgn val="ctr"/>
        <c:lblOffset val="100"/>
        <c:noMultiLvlLbl val="0"/>
      </c:catAx>
      <c:valAx>
        <c:axId val="27511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8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9DA-9E20-4B4E-87AC-D9247E6A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A8A-0A9F-4986-B2FF-16C4EAAB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BFF-F3D9-4B37-877F-5F7C5986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F55-AB85-49C4-B2D9-722306E2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18B-04DB-48E4-AB3E-1EE4397F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FAA-F4F4-4991-A16F-1D90528E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D70-F8EF-4FB4-A3CB-06828E2F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2B5B-0BDD-4C28-89B5-7408AFD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E95-3CDC-4999-B3B3-92594877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1A8-609D-4ADE-8AD5-59995FA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CBD-8F14-445B-8628-9A718F68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265-4CBB-4C1F-867A-A4B35DF3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3849B-F1F0-45BB-A3C6-7D60728FD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