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24622"/>
        <c:axId val="94942910"/>
      </c:barChart>
      <c:catAx>
        <c:axId val="823246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42910"/>
        <c:crosses val="autoZero"/>
        <c:auto val="1"/>
        <c:lblAlgn val="ctr"/>
        <c:lblOffset val="100"/>
        <c:noMultiLvlLbl val="0"/>
      </c:catAx>
      <c:valAx>
        <c:axId val="94942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246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152-7E60-4861-8BD9-38ABD54D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797A-7EEB-40FF-97F6-FC8FBCFF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2B8-5F3F-42B2-865E-2732FE56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56B-F882-4A2A-A8E7-5225C216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5CC-93B3-4F79-967F-076B8032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8FD2-5893-4056-B112-CEC70DD4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DBD-6ECB-448A-ABAF-CD6E89A7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F42-26AD-4BFE-9580-939D5A34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22C-C1F5-42D9-83EB-3D855C2B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8730-5D49-42C6-9120-D899312C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D6A6-8A3D-4784-ACE8-96D3C408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BE4-9802-4595-9FEF-5EE51D56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4191C-E29A-41CE-9923-FC1E336C7C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