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23664"/>
        <c:axId val="62502571"/>
      </c:barChart>
      <c:catAx>
        <c:axId val="36623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02571"/>
        <c:crosses val="autoZero"/>
        <c:auto val="1"/>
        <c:lblAlgn val="ctr"/>
        <c:lblOffset val="100"/>
        <c:noMultiLvlLbl val="0"/>
      </c:catAx>
      <c:valAx>
        <c:axId val="62502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23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8AF-ACCE-4906-BE45-6B06F6BC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AB0-CDD9-478A-818B-B3CE3E01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59E-7B8C-4F1F-B45A-980FEFBC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F99-9ABD-4609-9823-1AA4F267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CEB-D097-48D5-A91C-FB6B47C0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554-41AA-4C22-B42A-0187307A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8EF-F77A-424F-B243-A834D3CA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D4C-524E-43EC-83BC-B2157197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1EC-5EEC-4179-A820-EB76D0B7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1A8-F96C-4C76-AA8E-748667F1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A9E-F129-4813-9351-D2EB9196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7274-2FB6-48BF-BD4A-8E544B72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3B24E-BCF4-48DF-BEE3-FB19440749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