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57435"/>
        <c:axId val="3822718"/>
      </c:barChart>
      <c:catAx>
        <c:axId val="44657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718"/>
        <c:crosses val="autoZero"/>
        <c:auto val="1"/>
        <c:lblAlgn val="ctr"/>
        <c:lblOffset val="100"/>
        <c:noMultiLvlLbl val="0"/>
      </c:catAx>
      <c:valAx>
        <c:axId val="3822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7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C70-8CEB-4188-8140-129BD204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160-1F6A-420E-9CA5-C43D94E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677-F3D3-4B18-9D10-F0CFBC51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A47-C76B-4552-8332-2D9D9294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FF6-2BBF-4DC3-A469-D7166DE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3A-C42A-4641-9298-298F5C1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F6F-2414-4A1D-A6BE-5DABAF6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831-9B9D-485D-831D-8FC8437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744-F62C-4786-A006-FF9F7AE4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424-F969-46F6-9812-F255893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9F2-DB73-41CE-8159-F66A766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C40-A25F-473B-8D29-4E01FE9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D6DC-5542-4E0D-A469-2B897226E3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