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29434"/>
        <c:axId val="99331901"/>
      </c:barChart>
      <c:catAx>
        <c:axId val="85829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31901"/>
        <c:crosses val="autoZero"/>
        <c:auto val="1"/>
        <c:lblAlgn val="ctr"/>
        <c:lblOffset val="100"/>
        <c:noMultiLvlLbl val="0"/>
      </c:catAx>
      <c:valAx>
        <c:axId val="99331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29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250-46C0-42F4-9D94-96FA51C1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A83-C156-4F9C-A3D9-99AF39A7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25D-65DC-4DEE-B527-F6C9C9CF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C41-B67E-43C2-877E-940E5E67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DD3-047E-47C7-B958-06175F68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50B-D637-45A3-BFAD-0772C6E0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DF5-A667-40F4-A120-482BC710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48B-893B-4E43-8303-2D0433C3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5D6-F086-4649-ACE2-E04D9D16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B64-E99F-4550-9476-8E82B103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60A-B35C-48F3-9017-62FCDE1E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D9C-06D2-41B7-8444-8A9AD20D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2864D-CFAF-42EE-B2C2-DDD3F40557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