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8A924-9C6B-4930-BD60-517C42604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7FB8A-7E2D-4F4B-8778-B02E18A16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9D378-FD7F-4DFB-B917-2347A55B6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6EB63-E3FC-416F-99EB-B89D7F148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EE09E-C7AE-49A9-AAA0-86867C068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9E2F4-5867-4DE7-8170-55557DC11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63CA4-2525-4F8B-83A3-25981501D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2F857-07A4-47A6-8C42-05D39761B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833DC-B27A-465E-B093-3949800C4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987B0-4357-4A48-B53C-16888B51C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16174-486C-4CA0-A652-3CE5D5699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6C0AB-E6CE-4A7A-A3CA-653A2F540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7EBB0-849B-4444-9D75-76F4B83258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cherryPyLogoNoBaseline" descr=""/>
          <p:cNvPicPr/>
          <p:nvPr/>
        </p:nvPicPr>
        <p:blipFill>
          <a:blip r:embed="rId1"/>
          <a:stretch/>
        </p:blipFill>
        <p:spPr>
          <a:xfrm>
            <a:off x="3622680" y="1066680"/>
            <a:ext cx="2057400" cy="560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819600" y="3809880"/>
            <a:ext cx="166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émi Del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81680" y="2057400"/>
            <a:ext cx="653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erryPy: Dynamic websites with Pyth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356280" y="4495680"/>
            <a:ext cx="25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i@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934720" y="2895480"/>
            <a:ext cx="343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ttp://www.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124080" y="106668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is CherryPy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31240" y="2057400"/>
            <a:ext cx="7695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re Python (no C) tool for developing dynamic websi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s with python 2.1, 2.2, 2.3, Jyth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ns everywhere python runs (Linux, Windows,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s like a compil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 files (.cpy) -&gt; Single executable (.p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 files us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+ a few extra keywords + templating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295280" y="106668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ample source f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4572000"/>
            <a:ext cx="5029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remi@boa] cherrypy.py Root.c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remi@boa] python RootServer.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….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ing HTTP on socket port: 8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440" y="2133720"/>
            <a:ext cx="330624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vie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 “”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llo, wor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“”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057040" y="1676520"/>
            <a:ext cx="110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ot.c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6095880"/>
            <a:ext cx="41706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owser -&gt; http://localhost:8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3" descr=""/>
          <p:cNvPicPr/>
          <p:nvPr/>
        </p:nvPicPr>
        <p:blipFill>
          <a:blip r:embed="rId2"/>
          <a:stretch/>
        </p:blipFill>
        <p:spPr>
          <a:xfrm>
            <a:off x="4724280" y="2133720"/>
            <a:ext cx="419112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738880" y="1219320"/>
            <a:ext cx="366624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lo, 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3" descr=""/>
          <p:cNvPicPr/>
          <p:nvPr/>
        </p:nvPicPr>
        <p:blipFill>
          <a:blip r:embed="rId2"/>
          <a:stretch/>
        </p:blipFill>
        <p:spPr>
          <a:xfrm>
            <a:off x="2514600" y="4038480"/>
            <a:ext cx="419112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cherryPyLogoNoBaseline" descr=""/>
          <p:cNvPicPr/>
          <p:nvPr/>
        </p:nvPicPr>
        <p:blipFill>
          <a:blip r:embed="rId1"/>
          <a:stretch/>
        </p:blipFill>
        <p:spPr>
          <a:xfrm>
            <a:off x="380880" y="30168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0680" y="1219320"/>
            <a:ext cx="5916960" cy="521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exe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a=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f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,j in [(0,0),(1,0),(2,2)]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: 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+j+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&lt;b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f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co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mport smtp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f 0==0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b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4" descr=""/>
          <p:cNvPicPr/>
          <p:nvPr/>
        </p:nvPicPr>
        <p:blipFill>
          <a:blip r:embed="rId2"/>
          <a:stretch/>
        </p:blipFill>
        <p:spPr>
          <a:xfrm>
            <a:off x="6477120" y="2514600"/>
            <a:ext cx="2286000" cy="2800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552600" y="838080"/>
            <a:ext cx="853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ample source file for a dynamic site (also using OO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28600" y="1523880"/>
            <a:ext cx="5105520" cy="4109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ort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Desig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header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footer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body&gt;&lt;/html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Root(Design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func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getTime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urn time.strftime('%H:%M:%S'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index(self, myName=“world”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header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lo, 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myNam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&lt;b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ime is: 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getTime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rm action=“index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ter your name: &lt;input type=text name=myNa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input type=submit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for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footer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5" descr=""/>
          <p:cNvPicPr/>
          <p:nvPr/>
        </p:nvPicPr>
        <p:blipFill>
          <a:blip r:embed="rId2"/>
          <a:stretch/>
        </p:blipFill>
        <p:spPr>
          <a:xfrm>
            <a:off x="5486400" y="2514600"/>
            <a:ext cx="3505320" cy="2549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2209680" y="762120"/>
            <a:ext cx="485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ey properties of CherryP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900800" y="1295280"/>
            <a:ext cx="48852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verything we love about Python is still ther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ean synt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werful constructs. ex: for i,j in [(0,0),(1,2)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ndard libr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 unneeded extra code in the source fi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ry fast (thanks to compiler approach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asy to deploy (just one fil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80880" y="3916440"/>
            <a:ext cx="8534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+ all the features you would expect from a serious application server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8680" y="4368960"/>
            <a:ext cx="62517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base connectiv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 be run behind another webserver (Apache, …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oad-balan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cheing, Sessions, Http and cookie-based authentication, Form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ML-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 server supports SSL, threading, forking, process pooling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od docu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066680" y="6278400"/>
            <a:ext cx="7010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+ can be used as an XML/XSL framework if you wa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3131640" y="1673280"/>
            <a:ext cx="270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Questions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878920" y="3470400"/>
            <a:ext cx="3215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i@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0T10:06:14Z</dcterms:created>
  <dc:creator>Rémi</dc:creator>
  <dc:description/>
  <dc:language>en-US</dc:language>
  <cp:lastModifiedBy>RemiD</cp:lastModifiedBy>
  <dcterms:modified xsi:type="dcterms:W3CDTF">2003-07-09T16:41:46Z</dcterms:modified>
  <cp:revision>22</cp:revision>
  <dc:subject/>
  <dc:title>Présentation PowerPoint</dc:title>
</cp:coreProperties>
</file>