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29954"/>
        <c:axId val="72323270"/>
      </c:barChart>
      <c:catAx>
        <c:axId val="485299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23270"/>
        <c:crosses val="autoZero"/>
        <c:auto val="1"/>
        <c:lblAlgn val="ctr"/>
        <c:lblOffset val="100"/>
        <c:noMultiLvlLbl val="0"/>
      </c:catAx>
      <c:valAx>
        <c:axId val="72323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299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E33-48F5-4481-9A81-00DFC188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BF8-ED2F-41DD-9AEC-F51FC3EE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AB9-8FCA-4F24-96A3-5C8B46C9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47D-6AD0-4487-A9F1-C6EC3759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7F7B-6CBC-4ECB-A67D-D2A4A5AE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7DD-0BD8-4442-860C-9A2501A6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0FF-F1B0-4AB7-B254-25A22E21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089-43C9-4A0D-81A8-A22701DE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8C8-549C-4F81-A666-CB3419FB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C06-E1BF-4055-AF9C-BFCCBF3B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760-0176-441C-B5BC-E1818279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B2E-A52B-4C4F-A067-FB0F0DDA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A507A-DA48-40DF-B720-13664EF195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