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9392"/>
        <c:axId val="88058276"/>
      </c:barChart>
      <c:catAx>
        <c:axId val="2499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58276"/>
        <c:crosses val="autoZero"/>
        <c:auto val="1"/>
        <c:lblAlgn val="ctr"/>
        <c:lblOffset val="100"/>
        <c:noMultiLvlLbl val="0"/>
      </c:catAx>
      <c:valAx>
        <c:axId val="88058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9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39C-47ED-4AFD-9538-1A179D9C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46A-5E7E-40AD-AF04-6F8F5922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19A-0E07-478C-8692-07BBD845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83D-A3F8-4692-8DEB-FA78FC58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400-AD04-4C5C-99C2-644024E9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6C3-0FB0-4EF9-BA62-1D206887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33F-AEFE-4720-B7BB-9C5A56CC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3DB-BCEF-4613-A2DA-273A0A13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47D-63FF-4218-B4F6-3016A373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975-BA54-4504-9F3C-67C32808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C78-16D4-4A9A-9FCE-F4FFAB7F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9DF-4264-48A7-86E7-4F9B328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B14D1-121C-4C04-A3D2-F2A58315DF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