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923222"/>
        <c:axId val="62743574"/>
      </c:barChart>
      <c:catAx>
        <c:axId val="219232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43574"/>
        <c:crosses val="autoZero"/>
        <c:auto val="1"/>
        <c:lblAlgn val="ctr"/>
        <c:lblOffset val="100"/>
        <c:noMultiLvlLbl val="0"/>
      </c:catAx>
      <c:valAx>
        <c:axId val="62743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9232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8202-6B7B-43CB-93A9-348C25849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71F9-07B1-4C32-8DD0-705EA34F2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15C9-A10E-4A3C-989A-316E07FAD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594D-123A-44EC-9F22-7490B6084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D2B96-9DEB-478F-B51E-ADBAC8E9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9298-5012-4CDB-B968-99A80B11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F88D-D942-4866-8106-1F31A64BA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5D86-D33C-480A-B65F-52BAD6E4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435E-37A3-4491-84F4-4C92E571C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F979-0D2F-45C4-A3DA-8FBD6540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65EB-A57B-46FE-9F37-C3605D1FC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50A0E-E9E5-42A6-8E98-E59E1139D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B488BA-D8D9-4896-BF3B-368AF164B28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