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3843501"/>
        <c:axId val="55981587"/>
      </c:barChart>
      <c:catAx>
        <c:axId val="4384350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5981587"/>
        <c:crosses val="autoZero"/>
        <c:auto val="1"/>
        <c:lblAlgn val="ctr"/>
        <c:lblOffset val="100"/>
        <c:noMultiLvlLbl val="0"/>
      </c:catAx>
      <c:valAx>
        <c:axId val="5598158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84350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470E0-93DE-4395-B908-7B2FC8AFD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80B0-1E81-496C-B977-E09E8EC4DB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BB35-E201-4D0C-9F96-4E5C18EEF3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2EA6F-EB9D-4626-8896-EC5D2E62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9D632-1445-4AFF-B5F8-4FE3392688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ED2A1-8038-421F-925D-45D822388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4285-5A96-481F-8E82-8BCFABA64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F2CCA-574C-4955-B282-9EBA08CFE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4908-5104-4EC7-8376-900E33FA1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3A079-896B-454D-A742-A7C407F56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8297-A43A-48F4-B548-4008C631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613BD-96B8-4C17-9378-43E12C9F8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9E96F-B70E-49A8-9F8E-9AB3C62C1B4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