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8755"/>
        <c:axId val="88749197"/>
      </c:barChart>
      <c:catAx>
        <c:axId val="3958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49197"/>
        <c:crosses val="autoZero"/>
        <c:auto val="1"/>
        <c:lblAlgn val="ctr"/>
        <c:lblOffset val="100"/>
        <c:noMultiLvlLbl val="0"/>
      </c:catAx>
      <c:valAx>
        <c:axId val="88749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8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C6E-00A6-479F-94C5-76BD73AB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86A-BFC1-4AB4-AFC2-3F1173D2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CE2-7B3F-4A1A-8CF3-C4AF2353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478-830B-42F5-A342-EDE3300C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270-3396-44A3-BE7B-E4FFF8FF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514-B2D7-4339-83E3-D78FFFB0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02C-F89D-49F1-98D3-82E425CC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97C-0BBC-4709-B3B2-C5D20B5E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789-D36F-4563-B9BC-F8C09BAA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ECC-B239-47CF-87FA-3EB14C43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BB5-DAE9-4C3B-998A-C125192A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3C2-F825-48AB-868D-265A3286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ABFD3-78E0-419B-A50E-A060D0E786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