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63828"/>
        <c:axId val="41253011"/>
      </c:barChart>
      <c:catAx>
        <c:axId val="56663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53011"/>
        <c:crosses val="autoZero"/>
        <c:auto val="1"/>
        <c:lblAlgn val="ctr"/>
        <c:lblOffset val="100"/>
        <c:noMultiLvlLbl val="0"/>
      </c:catAx>
      <c:valAx>
        <c:axId val="41253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3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E86-8F48-41DF-B0EF-03BECFC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41D-0A5D-4B54-B173-B8ED0C6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7A5-BA99-4BAC-AB7A-E43685BE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F9D-F0EE-472F-9995-72E2878C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A86-113E-443F-B41D-85441F93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C19-C9F5-4620-8A8D-3D4894E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537-601D-4DE3-B261-DA1148D9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397-E968-42C8-A603-F537372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781-66FE-45C6-9ED6-F5BB11CB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A75-94C6-4655-AA21-E5FF35E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E44-04CA-4CC0-B879-6C156AA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688-DE8A-47B7-8C3C-DABC0D3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2F71-D401-4C5A-9B01-1B47FF10FF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