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BB8B-0D76-4385-8AFD-948F1C975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7579-4348-40F8-9214-A3D5D68DD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0361-72CF-45F2-ACF1-DAC848757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4128-2A7B-4B07-AF53-FB681BFC6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21EF-D2FE-4DD7-8466-68D78A0A2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7F47-8EAD-4B6E-9B25-1329DE683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8126-5A6F-47D0-B7F3-AC1AC4819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FF9F-55E9-4882-BEC2-A8715491D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B2E6-0D20-479D-A472-67B2525DD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1B00-005B-4977-AA51-BE7084C4F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8397-2586-466F-B54A-D7F06FE05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C419-61A6-486C-BDC9-47D7D00DC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F06B0-A574-4A76-BBC6-90E4152195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herryPyLogoNoBaseline" descr=""/>
          <p:cNvPicPr/>
          <p:nvPr/>
        </p:nvPicPr>
        <p:blipFill>
          <a:blip r:embed="rId1"/>
          <a:stretch/>
        </p:blipFill>
        <p:spPr>
          <a:xfrm>
            <a:off x="3622680" y="1066680"/>
            <a:ext cx="2057400" cy="560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819600" y="3809880"/>
            <a:ext cx="16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émi De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81680" y="2057400"/>
            <a:ext cx="653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erryPy: Dynamic websites with Pyth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356280" y="4495680"/>
            <a:ext cx="25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34720" y="2895480"/>
            <a:ext cx="34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1240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CherryPy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1240" y="2057400"/>
            <a:ext cx="7695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e Python (no C) tool for developing dynamic webs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with python 2.1, 2.2, 2.3, Jyth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s everywhere python runs (Linux, Windows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like a compil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(.cpy) -&gt; Single executable (.p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us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+ a few extra keywords + templating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2952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4572000"/>
            <a:ext cx="502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cherrypy.py 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python RootServer.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….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ng HTTP on socket port: 8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440" y="2133720"/>
            <a:ext cx="330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vi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57040" y="1676520"/>
            <a:ext cx="110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6095880"/>
            <a:ext cx="4170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wser -&gt; http://localhost:8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3" descr=""/>
          <p:cNvPicPr/>
          <p:nvPr/>
        </p:nvPicPr>
        <p:blipFill>
          <a:blip r:embed="rId2"/>
          <a:stretch/>
        </p:blipFill>
        <p:spPr>
          <a:xfrm>
            <a:off x="4724280" y="213372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738880" y="1219320"/>
            <a:ext cx="366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3" descr=""/>
          <p:cNvPicPr/>
          <p:nvPr/>
        </p:nvPicPr>
        <p:blipFill>
          <a:blip r:embed="rId2"/>
          <a:stretch/>
        </p:blipFill>
        <p:spPr>
          <a:xfrm>
            <a:off x="2514600" y="403848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cherryPyLogoNoBaseline" descr=""/>
          <p:cNvPicPr/>
          <p:nvPr/>
        </p:nvPicPr>
        <p:blipFill>
          <a:blip r:embed="rId1"/>
          <a:stretch/>
        </p:blipFill>
        <p:spPr>
          <a:xfrm>
            <a:off x="380880" y="30168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0680" y="1219320"/>
            <a:ext cx="5916960" cy="52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xe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a=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,j in [(0,0),(1,0),(2,2)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: 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+j+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co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mport smtp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f 0==0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b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4" descr=""/>
          <p:cNvPicPr/>
          <p:nvPr/>
        </p:nvPicPr>
        <p:blipFill>
          <a:blip r:embed="rId2"/>
          <a:stretch/>
        </p:blipFill>
        <p:spPr>
          <a:xfrm>
            <a:off x="6477120" y="2514600"/>
            <a:ext cx="2286000" cy="2800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52600" y="83808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 for a dynamic site (also using OO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1523880"/>
            <a:ext cx="5105520" cy="410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esig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head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foot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body&gt;&lt;/html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oot(Design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fun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getTime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urn time.strftime('%H:%M:%S'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index(self, myName=“world”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head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lo,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myNam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ime is: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getTime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rm action=“index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er your name: &lt;input type=text name=myNa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input type=submi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for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foot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5" descr=""/>
          <p:cNvPicPr/>
          <p:nvPr/>
        </p:nvPicPr>
        <p:blipFill>
          <a:blip r:embed="rId2"/>
          <a:stretch/>
        </p:blipFill>
        <p:spPr>
          <a:xfrm>
            <a:off x="5486400" y="2514600"/>
            <a:ext cx="3505320" cy="2549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209680" y="762120"/>
            <a:ext cx="485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ey properties of Cherry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00800" y="1295280"/>
            <a:ext cx="4885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erything we love about Python is still ther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ean synt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werful constructs. ex: for i,j in [(0,0),(1,2)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ndard libr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unneeded extra code in the source f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ry fast (thanks to compiler approach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sy to deploy (just one fi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3916440"/>
            <a:ext cx="8534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all the features you would expect from a serious application server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8680" y="4368960"/>
            <a:ext cx="6251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base connec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 be run behind another webserver (Apache, …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ad-balan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cheing, Sessions, Http and cookie-based authentication, Form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ML-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 server supports SSL, threading, forking, process pooling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od docu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6680" y="6278400"/>
            <a:ext cx="7010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can be used as an XML/XSL framework if you wa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131640" y="1673280"/>
            <a:ext cx="270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Questions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878920" y="3470400"/>
            <a:ext cx="3215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0T10:06:14Z</dcterms:created>
  <dc:creator>Rémi</dc:creator>
  <dc:description/>
  <dc:language>en-US</dc:language>
  <cp:lastModifiedBy>RemiD</cp:lastModifiedBy>
  <dcterms:modified xsi:type="dcterms:W3CDTF">2003-07-09T16:41:46Z</dcterms:modified>
  <cp:revision>22</cp:revision>
  <dc:subject/>
  <dc:title>Présentation PowerPoint</dc:title>
</cp:coreProperties>
</file>