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12671"/>
        <c:axId val="35286926"/>
      </c:barChart>
      <c:catAx>
        <c:axId val="49212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86926"/>
        <c:crosses val="autoZero"/>
        <c:auto val="1"/>
        <c:lblAlgn val="ctr"/>
        <c:lblOffset val="100"/>
        <c:noMultiLvlLbl val="0"/>
      </c:catAx>
      <c:valAx>
        <c:axId val="35286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2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F9C-FC84-4AA6-A634-C362A3A3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0B6-32B1-4C86-A936-20D1261A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5F2-8B2D-44A8-B3A4-6660E13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430-9F3B-4CB0-AD2E-80B783A0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E8A-C3E0-4BCE-928A-DB3E214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F7B-A2CB-4295-BF1B-07626B1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028-2A1E-4D55-A9B5-155644D8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CAE-71E0-461E-80E6-92448AB6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701-91AC-4198-8FB3-12746777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5AA-BCE5-4E25-830E-BFF99F1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B26-B25A-4D4E-B488-7188CE0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7F6-C75E-4C16-A311-FF3DAF1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36E1F-57A9-4FED-887C-DB312E3142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