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53130"/>
        <c:axId val="24178150"/>
      </c:barChart>
      <c:catAx>
        <c:axId val="41153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78150"/>
        <c:crosses val="autoZero"/>
        <c:auto val="1"/>
        <c:lblAlgn val="ctr"/>
        <c:lblOffset val="100"/>
        <c:noMultiLvlLbl val="0"/>
      </c:catAx>
      <c:valAx>
        <c:axId val="24178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53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AA7-9E98-4998-9CC3-C00E04BC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A9B-0A72-40DD-968E-15AC80E5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F35-8B51-4974-8C75-B6DB8205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65F-8256-4A3A-A8C9-C5B9A183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A4A-F2EF-4AAD-8C12-94B13C65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3AA-53AB-41DB-BF24-6FB9467D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FF2-A0EE-4699-B72B-46B7DA17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149-A44E-42AC-BEF1-3D2F30E6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A91-047F-4A66-BA2E-D4048B63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C8F-F43D-4D54-B1A7-61951E0E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A4D-4B25-4557-8BFC-93A8C611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BB7-A5C7-4929-BC8B-73877D5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447CA-44BC-4D45-9470-FC64B4860C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