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47322"/>
        <c:axId val="45977598"/>
      </c:barChart>
      <c:catAx>
        <c:axId val="12147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77598"/>
        <c:crosses val="autoZero"/>
        <c:auto val="1"/>
        <c:lblAlgn val="ctr"/>
        <c:lblOffset val="100"/>
        <c:noMultiLvlLbl val="0"/>
      </c:catAx>
      <c:valAx>
        <c:axId val="45977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47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28D-0E49-40EE-8550-F020DB16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5AC-3DB7-4D24-9FFC-3C07A98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3C-0C4E-45FB-9A31-04DF086C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6AE-0CCE-4835-B154-601DC601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4AC-5561-4782-862B-51D3F04F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BA1-FAE6-4083-869D-3DB3173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B40-FD98-49ED-8EB9-4E1B214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41D-084B-42DA-93DA-48020700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F1B-E3CA-4717-A881-DB81B5FA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AC4-F571-44B9-8E97-67DF0E9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67-C494-4E60-870A-22091A21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361-59AD-4A11-ADC5-3741B406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7AFA1-A3BE-4352-9BC3-0C48E5965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