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72980"/>
        <c:axId val="26397635"/>
      </c:barChart>
      <c:catAx>
        <c:axId val="66872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97635"/>
        <c:crosses val="autoZero"/>
        <c:auto val="1"/>
        <c:lblAlgn val="ctr"/>
        <c:lblOffset val="100"/>
        <c:noMultiLvlLbl val="0"/>
      </c:catAx>
      <c:valAx>
        <c:axId val="263976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72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DC0-B46D-4259-A638-6C0F5953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43F-1046-4382-ABC6-E5304B1A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DE7-1E0E-478B-83C1-2D0972B8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B04-2285-4FE7-8A80-5DE9B4CC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B2C-A65A-410B-813D-09840E48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338-A67F-4FE7-BE81-F685DA6E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9BE-B1EF-4E32-9549-9A09E397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BB0-D19D-474A-9477-3F7DE775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C51-8017-402D-A869-2E5FCC34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286-730A-4664-98FA-43A5FD4E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1B0-3DC0-4C60-8791-E15471F6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5C1-4CE4-4EF9-8B41-7C2D0E41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564FE-AADF-4FE5-BAE5-2B6B147ED7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