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54531"/>
        <c:axId val="56480775"/>
      </c:barChart>
      <c:catAx>
        <c:axId val="894545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480775"/>
        <c:crosses val="autoZero"/>
        <c:auto val="1"/>
        <c:lblAlgn val="ctr"/>
        <c:lblOffset val="100"/>
        <c:noMultiLvlLbl val="0"/>
      </c:catAx>
      <c:valAx>
        <c:axId val="564807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545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E558-951D-41B6-8266-9B6AA3A1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536-2AEB-4B3B-884C-ED8C8E99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020E-85B9-471D-BEFB-9534D1BE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BBC3-FC54-4122-9042-B54C4291E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8D8-0758-49C8-8626-AB9867A39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337D-5D06-4B8C-AFCF-34D6A398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D65-6DE2-4251-8C9A-1D2D9C95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82D6-6333-4A5E-A951-3DC370820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B953-94B1-49FC-9C92-81F31B6D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2B2F-2ADC-4B0C-A5F5-EC9B1B36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E983-62AB-49B9-9AD9-0ED894D4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432-20AE-4A63-AA35-201EA8D0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5C519-A081-48E6-A60E-C382BE779A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