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50761"/>
        <c:axId val="9466747"/>
      </c:barChart>
      <c:catAx>
        <c:axId val="182507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6747"/>
        <c:crosses val="autoZero"/>
        <c:auto val="1"/>
        <c:lblAlgn val="ctr"/>
        <c:lblOffset val="100"/>
        <c:noMultiLvlLbl val="0"/>
      </c:catAx>
      <c:valAx>
        <c:axId val="9466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507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AEE-D84D-400E-A74F-09855890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FCE-2E8B-4C0A-978C-7FA4F8EB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AA9-DC6B-45AA-9900-08952322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912-424E-4372-BA16-70E5894B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490-DB21-4249-9C3D-F9B4BE0F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84F-223B-4155-91E0-B19F1D2A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06A7-049E-41CE-842E-8620C249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7BC5-C033-4619-B992-482CB608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283-1DF1-4FED-8AE3-E2983379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AD9-6CB1-49A6-A5F2-7086357B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16A-4FA5-46AF-B3E5-9CD46E3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869-5F0B-4B1F-A938-5655B4A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41B91-D070-4BA8-A05F-CBA7CAC08B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