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238-5027-4A9D-BE2F-DFC425EA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7B1-8793-4FA8-A7DF-4E8CAF03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6AAC3-A9F0-4572-88F4-CA5B3B9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F463C-E3CB-4CDE-A329-00F35C96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5F1B3-3253-496E-A350-B165D60D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2406A-91CB-450B-BBF9-9D5FE62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4667-B334-4893-AD76-B9A25DE6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26857-EA3B-4429-92EC-9739356B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C04E8-2210-4241-8779-33C9FB59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C6789-35E5-4023-9FC3-DE9A249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F1A66-F1A5-4BF7-BC16-35E0FF5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79A1C4-3CF4-4994-93AF-7D07CC5A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B03-B3CA-4576-A322-2ED06964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7268F0-AE94-42FE-92EF-72FCDC47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5C2D5F-3276-451E-A919-783E8C3D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91B6E0-B0D6-4A3B-8244-B09DA618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469B9B-B08B-4847-A22D-F4A37CE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5ED310-E010-4DD7-B494-88EF1BEE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07219A-2117-4877-B311-E2FB4C6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24CBB-28A6-4850-9BE1-27E87E4A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1FFFAD-576A-41DC-B9BD-0F3B963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CF530-CC5C-468D-B764-15269334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6DBE5A-946B-434C-9121-E7A25307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8A4-135E-4864-8DED-A1CDA3BB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16318B-06A2-4EC4-9023-C0A33112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8136B-DBF0-4FFB-BB27-0D1230A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B54BB-61E2-4F15-A196-8A85EB8A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ED651-C360-405A-8BA0-4BF087C7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A0474-312F-4C8A-8759-4E44116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07F6B-989C-4D0F-8597-77861CAB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C0CBA-925C-4552-B3AB-C3C46233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89878-F78F-4A88-A735-7B47F88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FF282-9082-46AA-BAED-3309C42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EDAA-66BB-44C7-92C4-585EDD74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E41F-9683-44D7-93B8-87367C87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F41F1-3CBB-4770-BF3E-70BF484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8B88C-2DE9-4C50-A3AA-23D36C4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84EF2-40CE-4A95-A589-A4A94FC8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7E938-A0EA-4416-B8CD-A765A059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BAF1F-4E6E-457C-B2AB-F2340BFD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FB4BB-DE02-4B02-859C-9E6491BB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EB2A8-EB46-4461-A1F3-7C69D17C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109EB-2EFE-4951-83F2-6C47D99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0B67-2767-4B48-9639-23EEADB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045CA2-4023-44B9-95A5-732D7FA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934F-D946-4B30-86C2-4FCBCB8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B6AA3-1882-4E37-85D7-1747F3F5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4F2F0-8399-4807-9679-5497DC6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F4A21-1B9C-436D-B3A1-C56A28C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39BC9-6BD0-42DA-8330-564B4FCA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17DEB-A81A-4E4D-80DF-99F935BA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8FAA-FA98-4CCE-9561-17E680C2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DD91-5905-4C9B-9ADD-AF5744C7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C314-A6FA-4A05-BFC9-F5F0BE6F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D444-E2DF-4C63-B2C7-97A0DB5C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F6F6-A1AD-4D4C-AB70-04FD97F6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F6B-1CD1-4456-9862-377F566C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CE7D-4E39-4A5E-ACE1-038A2892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AB4C-718F-4573-BEC0-76810B3F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0C8A-AF0E-4736-9724-1999FE18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091F-E121-4E86-8D54-F6FBDD47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E2C-041B-44F0-94ED-E436D6BB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CE3B-757A-4B65-B97D-00006D15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001F-003E-4B1B-BD10-AC5A0EF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8C81-F7FB-48C0-8413-67A219F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A9A1-CFEC-49C4-A324-123BF07F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83A8-48D3-4A2A-84EF-B9160FF6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628-E343-4E41-8FA0-78DF966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BC20-F1F0-4D51-B4C1-E82855D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5DE4-92FE-4CD4-B00D-5AAA5B6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3C80B-82E6-4D8D-B590-FC0184F9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D851-C718-45B7-B28E-4940688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7985C-D6E0-42A8-9104-EF16F0D9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5E01-A95A-47FB-B15F-505CB04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5883-193E-4EB2-BCC7-78641C36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2C2F-CFEE-4A8B-9EC7-AA8C81B0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0148-9AD5-4BFB-AF0B-ECC4909D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5AA5-367C-4737-B638-437157F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4B8-4995-4334-9269-AD4A4DF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55CF-1D12-46ED-A8A8-0240501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0696F-6C7C-4A58-A91D-ACDFDE7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D6FC-7796-4BD4-BF7C-23CD024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367F-D96F-4B49-AA81-881857C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E632-909D-49AF-83D8-7B41A4E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112DF-2809-4FDD-8DB5-5E49CA0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6331-4753-42A6-977F-5BADC34D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97D78-F3F2-4C65-B571-595879EB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14A5-4150-4ECF-9FEE-DB66671E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E049A-4660-4647-BD9B-9DF4E524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6F5-BC44-4D34-8347-8DB2B3B3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BEAFA-17E8-446B-A5A4-8CE83B39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B7337-C576-44E3-9012-4D985C3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B1F2C-CB96-4CA5-A802-B3050722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5E798-3C4E-4839-8CE3-D0D91666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5F61E-0776-46DD-800F-41011CFC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8A7AA-F01E-431F-9C68-89B4CFA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406DD-75F1-49F6-9CE5-ACEFEE3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D105A-E9A3-432C-9AC0-3A5418F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EA121-D908-4AA5-B60B-5AB2316E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5D743-945F-47AB-8EA4-A63C7151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BC9C-E380-428E-9EF1-B45704C1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4B6A3-A4A3-4478-B752-F9620755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928EE-BDC9-45BF-B0B1-CA6A3BA8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16634-1531-40FB-8304-DC4D397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06BA1-3E8C-4255-A7C7-03665E3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232C-4D38-4266-8253-83F12672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2ADF9-9EA9-490C-B637-B8DE7ED4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9F2B-7B93-415E-94EE-7BA9B22D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0066E-6CC2-4F88-B72D-576183FD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446A2-326A-48E5-A7AD-8588BCDF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38D3-A0CC-4585-8EE9-3BF5B3B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08D-ED57-4ACD-9952-81C3034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7439F-7169-4FDF-B4C9-B690D29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CE13-7046-4CB7-A099-589A69BC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C221-035A-4E4A-A9AF-5F4D0A3A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5AF9-282B-4676-8444-C338A7A3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06FC-EF17-4130-9E4C-B294090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38E5-FFB5-474E-8209-C5D2F0E7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E9C1B-01C6-4FE8-90C1-A9F3958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7DCA-BCD3-45D8-9979-CD97D26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6122-B27F-4198-AB6A-85A65B7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3C6D-73C0-4F25-BD82-A1FADE69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275-73D2-4924-B6D4-9D69E219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A3CB6-583E-4AAF-9CEA-16A8A36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9EE4-A3CC-44CE-A2D7-EEB2117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1D396-3425-4231-9C79-C01025D2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80D3-B6DA-4249-8CFD-CB5A4E39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F500E-FE74-4931-91F9-F5388026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A550-1762-4980-9744-27453573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A7F13-6F40-4F1A-8F81-3010BDE1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13B72-EC2D-4BF4-9142-6A5EECA6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3DF6-52EE-4145-B312-693FDEAA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B13E-922F-4A1B-A6AE-7C6AB09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122-ECBD-40AC-8F4E-B8DFD5C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7A86A-BF95-4A2D-B9D3-D7B639FB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79FBE-D939-43D4-8CB8-6677DEA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1356-6EEC-4021-8270-9161A57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26EDC-05C3-4AFC-9ABE-E36DC6A3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6F9C6-70F2-413A-BC46-4AC64B74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3E59-4367-489F-A347-C4371EA1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5F3E0-592A-446A-92FE-E6FD66FF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9C85D-F293-4040-AD33-4F2600A1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2286B-9CB9-4EAF-B6BD-A5526EE9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CB32B-6009-4072-9BFF-81BEDF6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1938-BB61-4446-82D8-EE3357C71BD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D0C9-A605-4405-9C25-3EED18FF71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0B9F-FCDA-4965-B444-B4F14ACEC6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56D-58C8-4745-8961-35885209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60C8-C2C4-4383-A959-CEE1D5F871E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F5C-D6CE-4AA0-9D50-D403CB39CE6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4D91-2F89-44EA-A046-E51256A36E3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806-5AD8-4692-A027-8B1E894E81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FF6-34DD-4371-98A3-67BE72BBAB1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C5A9-C2A6-4566-B731-2E4413F592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B85-3B1C-42F2-A96F-6BD9BB158F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0E5A-FC04-4B00-9A62-062D3E05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BD5E-A064-40AD-944F-0DA13CCD5B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E93A-56B5-4EC2-97A2-8670DC3C2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C4F4-96D5-4083-9CCB-BEF8DEA6C32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B6D9-D584-42A2-8F4C-54ED232C072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453-9CCF-4466-B604-C51D531BA43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6EC8-AC6E-48DA-9E6B-1131BA4049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22C7-D579-4F7A-ADD1-3F8EF16EB6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12B4-0E4E-4811-B489-5CB7F5C3C9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F038-69E7-4E80-A3A0-06BD94076EF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B68E-6E9D-416E-A978-9C073E1B67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C3E2-74EC-408B-9B1B-27DAFA0AE3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D7EF-3809-4B44-96A8-99BB0ACB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F6D-84FF-4E73-95C7-9CEDBF3971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188CB-75FB-476B-8BB7-E70DDB4C1E3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0EC3-FAEF-4BB5-83AA-0DBD7E975F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B3D7EF1-A94E-421F-8648-4E836DA7EEB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EC3A-25B3-4E68-B93E-87E74A689937}" type="slidenum">
              <a:t>3</a:t>
            </a:fld>
          </a:p>
        </p:txBody>
      </p:sp>
    </p:spTree>
  </p:cSld>
  <p:transition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497DF-D3E7-46F1-B4EB-739449A5DC4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7F8998F-EFCF-4FCA-8098-A2A18ED666B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41B8D-8FA4-4718-9D89-26CBC83023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DB18065-B01A-403E-AEA5-883715BAC92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AE06E-47CA-43C7-A748-16803199908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0D48834-B902-4546-9F0F-26987EA17984}" type="datetime1">
              <a:rPr lang="en-US"/>
              <a:t>07/28/26</a:t>
            </a:fld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