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9401"/>
        <c:axId val="90884428"/>
      </c:barChart>
      <c:catAx>
        <c:axId val="6199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84428"/>
        <c:crosses val="autoZero"/>
        <c:auto val="1"/>
        <c:lblAlgn val="ctr"/>
        <c:lblOffset val="100"/>
        <c:noMultiLvlLbl val="0"/>
      </c:catAx>
      <c:valAx>
        <c:axId val="90884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9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E39E-22BD-4BDB-81F2-44AFCE34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B75-EA97-4B36-A25C-0C3B9318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AC2-9AA4-4473-A008-ED0FBAD8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798-42B4-4997-9926-8FCE065B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E9F-2065-4289-AEB6-1AE69B02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A07-5AC5-40C9-B0F2-61C5D385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30E-32EC-4100-8C37-EF1281C5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65F-CB3A-47C7-9E02-B2241BDB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AD6C-8C78-419F-9FA8-38DD1EA9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1C7-3398-4603-A5F8-863B1762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310-04A0-41F6-8170-BB3D9BC2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954-19CE-4533-9236-7682075B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45FAD-CF9D-45C5-B46F-C24DCFBC85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