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75431"/>
        <c:axId val="76264375"/>
      </c:barChart>
      <c:catAx>
        <c:axId val="53675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64375"/>
        <c:crosses val="autoZero"/>
        <c:auto val="1"/>
        <c:lblAlgn val="ctr"/>
        <c:lblOffset val="100"/>
        <c:noMultiLvlLbl val="0"/>
      </c:catAx>
      <c:valAx>
        <c:axId val="76264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75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AFC-CC4E-4AED-80A1-FE4D0A82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B0B-5EA7-4A5F-A04F-FA67E1F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774-F9B6-45FC-B1F0-D8A4C1A8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64E-9DFD-47EE-890E-88B60E2C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A08-168D-4977-92C6-ACE055E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CDA-4C27-496A-A982-40D0074B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C53-B84E-4849-9092-9955FF8B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0F7-6D19-44AB-9631-D8449F8F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FAE-7381-4D3D-B850-7FE1395A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271-E6C4-431E-B380-47065869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D35-4C32-4E23-AF12-E7488F7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CD2-B638-4560-87A3-0E5B9615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C8449-0826-45B5-8E7B-38F6BCA07B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